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0D99-B71A-40E1-BFFD-3A87F101D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C2DF-8742-4998-BF6E-8A426D16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B8E1-2804-4392-BE30-9F6FA1E0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3C39-67CD-4A0A-B781-B0ABE3C92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BB70-3B4B-4BFD-A8C9-1C8824AD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A95A-C425-4962-A245-17B741BC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F5BC-5833-4363-8EDC-AD704EF8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3156-533F-47C5-94A3-1B91629C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167E-7C8E-4724-8CB5-BBB5C2A9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0513-0A9B-4480-B855-7537E64C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E5D4-533C-486A-BFD4-C3F70447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2BF4-BC6E-4078-A2B3-A1015156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E7B1-4BF5-4ACB-B740-04C626EC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ED93-7F9D-4964-AAF6-8922EA0F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A139-8784-4480-9D3C-7A72EB04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4B6E-9C40-4D02-9E32-E18E0CDA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863C-387B-4131-998A-B82B80B2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FDB8-991B-4E34-AFFF-9E92A303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FACA-9797-49A6-BF24-8A5FB04E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863B-03D2-44BF-B4FF-C017B5C4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1C1C-77E8-4DF9-B648-EEC8DFBD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82C9-6682-439F-A1BE-CCDCF1D9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9121-B10F-4F30-930F-A89055EB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42CC-5FC7-4C72-AA20-A62766D0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C0A8-4157-4F94-A55F-3F59E0EA501F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09480"/>
            <a:ext cx="9144000" cy="939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359000"/>
            <a:ext cx="9144000" cy="30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-76320" y="6095880"/>
            <a:ext cx="9296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-152280" y="1371600"/>
            <a:ext cx="929628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66760" y="673200"/>
            <a:ext cx="834840" cy="9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26AB-3400-4885-9069-2532917A2B77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9480"/>
            <a:ext cx="9144000" cy="939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359000"/>
            <a:ext cx="9144000" cy="30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6320" y="6095880"/>
            <a:ext cx="9296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52280" y="1371600"/>
            <a:ext cx="929628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66760" y="673200"/>
            <a:ext cx="834840" cy="9619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32920" y="1925640"/>
            <a:ext cx="8504280" cy="37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ECISION MODELING FOR HEALTHCARE ORGANIZATION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eaeaea"/>
                </a:solidFill>
                <a:latin typeface="Arial"/>
              </a:rPr>
              <a:t>April 23, 2007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eaeaea"/>
                </a:solidFill>
                <a:latin typeface="Arial"/>
              </a:rPr>
              <a:t>Team 1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Joel Aasma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ay S. Cheng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achel Gree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att Lawri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9440" y="1882440"/>
            <a:ext cx="78138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5 ≤ PGs ≤ 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1081080" indent="-45720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sidents are paid for through subsidies from the govern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atio of PGs 1, 2, 3 to each other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24000" y="4167360"/>
            <a:ext cx="6503760" cy="1452240"/>
            <a:chOff x="324000" y="4167360"/>
            <a:chExt cx="6503760" cy="1452240"/>
          </a:xfrm>
        </p:grpSpPr>
        <p:grpSp>
          <p:nvGrpSpPr>
            <p:cNvPr id="151" name=""/>
            <p:cNvGrpSpPr/>
            <p:nvPr/>
          </p:nvGrpSpPr>
          <p:grpSpPr>
            <a:xfrm>
              <a:off x="5870520" y="4606920"/>
              <a:ext cx="944640" cy="1012680"/>
              <a:chOff x="5870520" y="4606920"/>
              <a:chExt cx="944640" cy="1012680"/>
            </a:xfrm>
          </p:grpSpPr>
          <p:sp>
            <p:nvSpPr>
              <p:cNvPr id="152" name=""/>
              <p:cNvSpPr/>
              <p:nvPr/>
            </p:nvSpPr>
            <p:spPr>
              <a:xfrm>
                <a:off x="5870520" y="4606920"/>
                <a:ext cx="944640" cy="1012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pic>
            <p:nvPicPr>
              <p:cNvPr id="1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059520" y="4732200"/>
                <a:ext cx="557280" cy="811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4" name=""/>
            <p:cNvGrpSpPr/>
            <p:nvPr/>
          </p:nvGrpSpPr>
          <p:grpSpPr>
            <a:xfrm>
              <a:off x="4327560" y="4606920"/>
              <a:ext cx="944640" cy="1012680"/>
              <a:chOff x="4327560" y="4606920"/>
              <a:chExt cx="944640" cy="1012680"/>
            </a:xfrm>
          </p:grpSpPr>
          <p:sp>
            <p:nvSpPr>
              <p:cNvPr id="155" name=""/>
              <p:cNvSpPr/>
              <p:nvPr/>
            </p:nvSpPr>
            <p:spPr>
              <a:xfrm>
                <a:off x="4327560" y="4606920"/>
                <a:ext cx="944640" cy="1012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pic>
            <p:nvPicPr>
              <p:cNvPr id="1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516560" y="4732200"/>
                <a:ext cx="557280" cy="811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7" name=""/>
            <p:cNvGrpSpPr/>
            <p:nvPr/>
          </p:nvGrpSpPr>
          <p:grpSpPr>
            <a:xfrm>
              <a:off x="2790720" y="4606920"/>
              <a:ext cx="944640" cy="1012680"/>
              <a:chOff x="2790720" y="4606920"/>
              <a:chExt cx="944640" cy="1012680"/>
            </a:xfrm>
          </p:grpSpPr>
          <p:sp>
            <p:nvSpPr>
              <p:cNvPr id="158" name=""/>
              <p:cNvSpPr/>
              <p:nvPr/>
            </p:nvSpPr>
            <p:spPr>
              <a:xfrm>
                <a:off x="2790720" y="4606920"/>
                <a:ext cx="944640" cy="1012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pic>
            <p:nvPicPr>
              <p:cNvPr id="15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979720" y="4732200"/>
                <a:ext cx="557280" cy="811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0" name=""/>
            <p:cNvSpPr/>
            <p:nvPr/>
          </p:nvSpPr>
          <p:spPr>
            <a:xfrm>
              <a:off x="2646360" y="4241880"/>
              <a:ext cx="11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1 PG 1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78160" y="4255920"/>
              <a:ext cx="11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1 PG 2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35800" y="4272120"/>
              <a:ext cx="119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1 PG 3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4000" y="4213080"/>
              <a:ext cx="223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Approximate Ratio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40320" y="4214880"/>
              <a:ext cx="26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70360" y="4167360"/>
              <a:ext cx="26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639720" y="957240"/>
            <a:ext cx="8504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DEL OVERVIEW: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Constrai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887480" y="326556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EL OVERVIEW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87480" y="447840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HYSICIAN ASSISTANT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87480" y="508644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CLUSIONS &amp; LIMITATION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87480" y="265896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IAL PROBLEM DEFINITION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86040" y="205272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EL OBJECTIV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9720" y="957240"/>
            <a:ext cx="8504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79560" y="3871800"/>
            <a:ext cx="5400720" cy="41904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ODEL RESULT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9480" y="1827360"/>
            <a:ext cx="6705360" cy="407196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143000" y="1808280"/>
            <a:ext cx="6738840" cy="41004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39720" y="957240"/>
            <a:ext cx="8504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DEL RES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352520" y="2124000"/>
            <a:ext cx="6516720" cy="35053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39720" y="957240"/>
            <a:ext cx="8504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DEL RES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06280" y="1935000"/>
            <a:ext cx="8580600" cy="36118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39720" y="957240"/>
            <a:ext cx="8504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DEL RES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23920" y="2593800"/>
            <a:ext cx="8555040" cy="22370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39720" y="957240"/>
            <a:ext cx="8504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DEL RES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69440" y="1882440"/>
            <a:ext cx="78138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ith optimal staffing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1081080" indent="-45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fit of $32,219 per da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1081080" indent="-45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 Supervisory Attending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1081080" indent="-45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3 Faculty Attending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1081080" indent="-45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 Post Graduate Year 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1081080" indent="-45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 Post Graduate Year 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1081080" indent="-45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 Post Graduate Year 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1081080" indent="-45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0 Physician Assista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1081080" indent="-45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5 Administrative Staff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9720" y="957240"/>
            <a:ext cx="8504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DEL RES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887480" y="326556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EL OVERVIEW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87480" y="4478400"/>
            <a:ext cx="5400720" cy="41904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HYSICIAN ASSISTANT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87480" y="508644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CLUSIONS &amp; LIMITATION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87480" y="265896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IAL PROBLEM DEFINITION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86040" y="205272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EL OBJECTIV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9720" y="957240"/>
            <a:ext cx="8504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79560" y="387180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EL RESULT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69440" y="1882440"/>
            <a:ext cx="78138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’s Salary ~ Half Attending’s Sal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verage time per pati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1081080" indent="-45720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9.21 min versus 15.85 min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1081080" indent="-45720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36 min dif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ears optimal to staff P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Yet solution contains NO P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9720" y="957240"/>
            <a:ext cx="8504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HYSICIAN’S ASSISTA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5760" y="2131920"/>
            <a:ext cx="8226360" cy="3429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39720" y="957240"/>
            <a:ext cx="8504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HYSICIAN’S ASSISTA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887480" y="326556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EL OVERVIEW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87480" y="447840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HYSICIAN ASSISTANT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87480" y="508644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CLUSIONS &amp; LIMITATION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87480" y="265896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IAL PROBLEM DEFINITION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86040" y="2052720"/>
            <a:ext cx="5400720" cy="41904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ODEL OBJECTIV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9720" y="957240"/>
            <a:ext cx="8504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79560" y="387180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EL RESULT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887480" y="326556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EL OVERVIEW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87480" y="447840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HYSICIAN ASSISTANT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887480" y="5086440"/>
            <a:ext cx="5400720" cy="41904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CLUSIONS &amp; LIMITATION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87480" y="265896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IAL PROBLEM DEFINITION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86040" y="205272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EL OBJECTIV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9720" y="957240"/>
            <a:ext cx="8504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79560" y="387180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EL RESULT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9440" y="1882440"/>
            <a:ext cx="78138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al world model can be much more compli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1081080" indent="-45720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ixed cos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1081080" indent="-45720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ditional variable cos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1081080" indent="-45720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hysicians select patients based on payment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1081080" indent="-45720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9720" y="957240"/>
            <a:ext cx="8504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S &amp; LIMIT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5400" y="1846440"/>
            <a:ext cx="8226360" cy="28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ur model will help the medical practice administration determine the number of Physicians, Residents, Physician Assistants and Administrative Staff to hire in order to maximize profi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9720" y="957240"/>
            <a:ext cx="8504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DEL OBJECT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887480" y="326556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EL OVERVIEW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87480" y="447840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HYSICIAN ASSISTANT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87480" y="508644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CLUSIONS &amp; LIMITATION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87480" y="2658960"/>
            <a:ext cx="5400720" cy="41904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NAGERIAL PROBLEM DEFINITION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86040" y="205272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EL OBJECTIV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9720" y="957240"/>
            <a:ext cx="8504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79560" y="387180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EL RESULT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5400" y="1856880"/>
            <a:ext cx="8226360" cy="20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ministrators running a medical practice are often unsure about optimal staffing level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75200" indent="-18288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many Supervisory Attendings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75200" indent="-18288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many Faculty Attendings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75200" indent="-18288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many Residents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75200" indent="-18288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many Physician Assistants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75200" indent="-18288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many Administrative Staff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9720" y="957240"/>
            <a:ext cx="8504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NAGERIAL PROBLEM DEFIN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887480" y="3265560"/>
            <a:ext cx="5400720" cy="41904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ODEL OVERVIEW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87480" y="447840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HYSICIAN ASSISTANT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87480" y="508644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CLUSIONS &amp; LIMITATION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87480" y="265896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IAL PROBLEM DEFINITION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86040" y="205272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EL OBJECTIV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9720" y="957240"/>
            <a:ext cx="8504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79560" y="387180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EL RESULT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5400" y="1856880"/>
            <a:ext cx="8226360" cy="28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OBJECTIVE: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Maximize Profit = Revenue – Salary Cos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DECISION VARIABLES: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The number of Supervisory Attendings, Faculty Attendings, 1st, 2nd, and 3rd year Residents (PGs), and Physician Assistants to staff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12920" y="5024520"/>
            <a:ext cx="733320" cy="1066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679400" y="5024520"/>
            <a:ext cx="733680" cy="1066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7737480" y="5024520"/>
            <a:ext cx="733320" cy="1066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203960" y="5024520"/>
            <a:ext cx="733680" cy="1066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6670800" y="5024520"/>
            <a:ext cx="733320" cy="1066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1146240" y="5024520"/>
            <a:ext cx="733320" cy="1066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689040" y="5024520"/>
            <a:ext cx="733320" cy="1066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6137280" y="5024520"/>
            <a:ext cx="733320" cy="1066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39720" y="957240"/>
            <a:ext cx="8504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DEL OVERVIEW: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Objectiv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5400" y="1856880"/>
            <a:ext cx="8226360" cy="28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spcBef>
                <a:spcPts val="601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nlimited deman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verage % of daily patients who are new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verage patient revenu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verage Salaries (Salary.com): Attendings, Physician Assistants, Administrative Staff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ime spent by each practitioner with pati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ime spent by each Supervising Attending with Resid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9720" y="957240"/>
            <a:ext cx="8504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DEL OVERVIEW: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Inpu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9440" y="1882440"/>
            <a:ext cx="78138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8 rooms available: total minutes of operation ≤ 4320 (hours of operation * 60 * 8 room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1081080" indent="-4572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pen from 8 am – 5 p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1081080" indent="-4572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andatory 1 hour lunch/break for all employe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ach Supervisory Attending must supervise no more than 5 Resid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1081080" indent="-4572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he Supervising Attending’s availability to see patients is a function of how many resident’s he must supervis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25560" y="4956120"/>
            <a:ext cx="627120" cy="91440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7283520" y="4962600"/>
            <a:ext cx="944640" cy="1012680"/>
            <a:chOff x="7283520" y="4962600"/>
            <a:chExt cx="944640" cy="1012680"/>
          </a:xfrm>
        </p:grpSpPr>
        <p:sp>
          <p:nvSpPr>
            <p:cNvPr id="133" name=""/>
            <p:cNvSpPr/>
            <p:nvPr/>
          </p:nvSpPr>
          <p:spPr>
            <a:xfrm>
              <a:off x="7283520" y="4962600"/>
              <a:ext cx="944640" cy="10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7472520" y="5087880"/>
              <a:ext cx="557280" cy="81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"/>
          <p:cNvSpPr/>
          <p:nvPr/>
        </p:nvSpPr>
        <p:spPr>
          <a:xfrm>
            <a:off x="1941480" y="5184720"/>
            <a:ext cx="914400" cy="457200"/>
          </a:xfrm>
          <a:custGeom>
            <a:avLst/>
            <a:gdLst>
              <a:gd name="textAreaLeft" fmla="*/ 0 w 914400"/>
              <a:gd name="textAreaRight" fmla="*/ 914760 w 9144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286680" y="4956120"/>
            <a:ext cx="944280" cy="1012680"/>
            <a:chOff x="6286680" y="4956120"/>
            <a:chExt cx="944280" cy="1012680"/>
          </a:xfrm>
        </p:grpSpPr>
        <p:sp>
          <p:nvSpPr>
            <p:cNvPr id="137" name=""/>
            <p:cNvSpPr/>
            <p:nvPr/>
          </p:nvSpPr>
          <p:spPr>
            <a:xfrm>
              <a:off x="6286680" y="4956120"/>
              <a:ext cx="944280" cy="10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3"/>
            <a:stretch/>
          </p:blipFill>
          <p:spPr>
            <a:xfrm>
              <a:off x="6475320" y="5081400"/>
              <a:ext cx="556920" cy="81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" name=""/>
          <p:cNvGrpSpPr/>
          <p:nvPr/>
        </p:nvGrpSpPr>
        <p:grpSpPr>
          <a:xfrm>
            <a:off x="5267160" y="4956120"/>
            <a:ext cx="944640" cy="1012680"/>
            <a:chOff x="5267160" y="4956120"/>
            <a:chExt cx="944640" cy="1012680"/>
          </a:xfrm>
        </p:grpSpPr>
        <p:sp>
          <p:nvSpPr>
            <p:cNvPr id="140" name=""/>
            <p:cNvSpPr/>
            <p:nvPr/>
          </p:nvSpPr>
          <p:spPr>
            <a:xfrm>
              <a:off x="5267160" y="4956120"/>
              <a:ext cx="944640" cy="10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4"/>
            <a:stretch/>
          </p:blipFill>
          <p:spPr>
            <a:xfrm>
              <a:off x="5456160" y="5081400"/>
              <a:ext cx="557280" cy="81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"/>
          <p:cNvGrpSpPr/>
          <p:nvPr/>
        </p:nvGrpSpPr>
        <p:grpSpPr>
          <a:xfrm>
            <a:off x="4248000" y="4956120"/>
            <a:ext cx="944640" cy="1012680"/>
            <a:chOff x="4248000" y="4956120"/>
            <a:chExt cx="944640" cy="1012680"/>
          </a:xfrm>
        </p:grpSpPr>
        <p:sp>
          <p:nvSpPr>
            <p:cNvPr id="143" name=""/>
            <p:cNvSpPr/>
            <p:nvPr/>
          </p:nvSpPr>
          <p:spPr>
            <a:xfrm>
              <a:off x="4248000" y="4956120"/>
              <a:ext cx="944640" cy="10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5"/>
            <a:stretch/>
          </p:blipFill>
          <p:spPr>
            <a:xfrm>
              <a:off x="4437000" y="5081400"/>
              <a:ext cx="557280" cy="81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"/>
          <p:cNvGrpSpPr/>
          <p:nvPr/>
        </p:nvGrpSpPr>
        <p:grpSpPr>
          <a:xfrm>
            <a:off x="3203640" y="4956120"/>
            <a:ext cx="944640" cy="1012680"/>
            <a:chOff x="3203640" y="4956120"/>
            <a:chExt cx="944640" cy="1012680"/>
          </a:xfrm>
        </p:grpSpPr>
        <p:sp>
          <p:nvSpPr>
            <p:cNvPr id="146" name=""/>
            <p:cNvSpPr/>
            <p:nvPr/>
          </p:nvSpPr>
          <p:spPr>
            <a:xfrm>
              <a:off x="3203640" y="4956120"/>
              <a:ext cx="944640" cy="10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6"/>
            <a:stretch/>
          </p:blipFill>
          <p:spPr>
            <a:xfrm>
              <a:off x="3392640" y="5081400"/>
              <a:ext cx="557280" cy="81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"/>
          <p:cNvSpPr/>
          <p:nvPr/>
        </p:nvSpPr>
        <p:spPr>
          <a:xfrm>
            <a:off x="639720" y="957240"/>
            <a:ext cx="8504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DEL OVERVIEW: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Constrai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8T17:20:29Z</dcterms:created>
  <dc:creator>Rachel Green</dc:creator>
  <dc:description/>
  <dc:language>en-US</dc:language>
  <cp:lastModifiedBy>Stern School of Business</cp:lastModifiedBy>
  <dcterms:modified xsi:type="dcterms:W3CDTF">2007-04-16T16:29:48Z</dcterms:modified>
  <cp:revision>22</cp:revision>
  <dc:subject/>
  <dc:title>Decision Modeling For Healthcare Organizations</dc:title>
</cp:coreProperties>
</file>